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454-9982-4AD1-856A-661E341D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C98-1A67-4DA1-A257-FCD310A0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3D2-58A4-4365-B800-50A3C227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8D6-E4E9-4644-AA60-3C32AF79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EC1-57C7-4157-8FA9-155D6C27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532-B5F8-4447-B27D-11487F7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2E2-43A7-4EFD-9008-8CF0C1BC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967-3C5F-41C2-9F4A-A6FB3AF1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F75-83DA-4DE4-908A-F1655653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D29-10AC-41E5-8CC9-FBFCB341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845-8DE3-4A36-B408-91152F1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E5F-B1C0-48E7-B412-4453DE1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D267-B7E9-477E-8E9C-D41ACD41C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2590920"/>
            <a:ext cx="14479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2819520"/>
            <a:ext cx="10670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809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029200" y="2057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343400"/>
            <a:ext cx="14475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828800"/>
            <a:ext cx="13716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971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l lysising Ch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0481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e (Oil and Biomas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057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19810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44956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 and Bro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486400"/>
            <a:ext cx="1523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13716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358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56386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apo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7200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5715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5410080"/>
            <a:ext cx="1295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638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5486400"/>
            <a:ext cx="12952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53280" y="56386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d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95480" y="3885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419720"/>
            <a:ext cx="12193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572000"/>
            <a:ext cx="990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97180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12189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971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 Mix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6477120"/>
            <a:ext cx="17524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6135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ing Hex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600200"/>
            <a:ext cx="990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nt Extraction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r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9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ing Hex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rmentation &amp; Extraction Cost Analy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4925880"/>
        </p:xfrm>
        <a:graphic>
          <a:graphicData uri="http://schemas.openxmlformats.org/drawingml/2006/table">
            <a:tbl>
              <a:tblPr/>
              <a:tblGrid>
                <a:gridCol w="1795320"/>
                <a:gridCol w="3559320"/>
                <a:gridCol w="28749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i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for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g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Fo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for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 Co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for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g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hloric Aci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$35.00 per 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&amp;k Petroch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x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.17 per unit (1 Gal) plus $20 shipping surcharge every 6 uni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Q Conce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rmen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the qu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pec /Midd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es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the qu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p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tr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for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g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ested for qu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 Sp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an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46.00 for 25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ma Aldr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8:19:14Z</dcterms:created>
  <dc:creator>Guest</dc:creator>
  <dc:description/>
  <dc:language>en-US</dc:language>
  <cp:lastModifiedBy>CheStudent</cp:lastModifiedBy>
  <dcterms:modified xsi:type="dcterms:W3CDTF">2010-02-18T18:20:21Z</dcterms:modified>
  <cp:revision>3</cp:revision>
  <dc:subject/>
  <dc:title>Block Flow Diagram</dc:title>
</cp:coreProperties>
</file>